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EE6-4FE1-4783-A421-6713B8C4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594-876C-4DFA-8A56-8D7B8D3B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4E3-6027-45F8-B730-42287C51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5FC-F2E2-4AD4-8C2A-C86B4F13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1C8-1135-4E68-BBD7-24BB2292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06F-191A-40DD-AAF0-A086E6C6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D68-3224-42E2-9EBE-9D07CE13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3CD-2D8C-4C13-B8BC-05F65E5D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F02-88F5-48DA-B845-2562FDC7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0B1-B682-4C1F-B545-C4107152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2FB-870B-4950-B05F-FFE1E5E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BA8-C098-4343-958C-BAA8CF53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FA19-861D-4725-BAF4-A7B095109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ы М.Ю.Лермон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38680" cy="5211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867280" y="15238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 Ю. Лермонтов в сюртуке Тенгинского пехотного полка. Акварель К.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бунова. 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ий прижизненный портрет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РТР́́ЕТЫ Лермон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38080" y="636480"/>
            <a:ext cx="754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шего времени дошло 15 прижизненных изображений Л. Это немало, если принять во внимание трагич. судьбу поэта — две ссылки на Кавказ, участие в боевых походах и его раннюю гибель. Ни один портрет Л., взятый отдельно, не дает исчерпывающего представления о внешнем облике, о глубине и многогранности внутр. мира гениального поэта. Но в совокупности созданные проф. художниками высокой квалиф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Ф. О. Будкин, П. Е. Заболотский, А. И. Клюндер, К. А. Горбу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вторы осн. прижизненной иконографии Л. — все впоследствии стали академиками живописи) эти портреты все же дают конкретное представление о наружности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62720" cy="5897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248520" y="9144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рмонтов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8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20-1822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ортрет Лермонтова, выполнен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известным художн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которые исследователи подлинность портрета ставят под сом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18160" cy="5288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943600" y="1905120"/>
            <a:ext cx="297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ного или графического изображения Лермонтова М.Ю. в период его обучения в Москве нет. Большая часть портретов относится уже к последующему, петербургскому период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ки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по заказу Е.А. Арсень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07024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095880" y="114300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рмонтов в ментике лейб-гвардии Гусарского полк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от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был профессиональным художником, портрет получился великолеп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867280" cy="5445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629400" y="1523880"/>
            <a:ext cx="19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ртрет Лермонтов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самим поэтом на Кавказе. Портрет является одним из самых ценных для исследователей-лермонтове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98720" cy="498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715000" y="21337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И. Клюнд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38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амый первый портрет Клюндера (бумага, акварель),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257800" cy="5205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248520" y="2057400"/>
            <a:ext cx="236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Е. Заболот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стично выполненный портрет. Картон, масло. Картина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880920"/>
            <a:ext cx="5562720" cy="5245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172200" y="1447920"/>
            <a:ext cx="2514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полчанина Д.П. Па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профильный портрет поэта. Исключительная ценность этой работы в том, что однополчанин возможно наиболее точно передал внешность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2-03T05:08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